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39920" indent="-43992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3992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280880" indent="-43956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43992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2160720" indent="-43956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2160720" indent="-43956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2160720" indent="-43956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marL="102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600" indent="-102600" algn="ctr"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600" indent="-102600" algn="ctr"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2600" indent="-102600" algn="ctr"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02600" indent="-102600" algn="ctr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02600" indent="-102600" algn="ctr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02600" indent="-102600" algn="ctr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366120" indent="-366120">
              <a:spcBef>
                <a:spcPts val="3200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6120">
              <a:spcBef>
                <a:spcPts val="3200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15800" indent="-365760">
              <a:spcBef>
                <a:spcPts val="3200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13320" indent="-366120">
              <a:spcBef>
                <a:spcPts val="3200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310120" indent="-365760">
              <a:spcBef>
                <a:spcPts val="3200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310120" indent="-365760">
              <a:spcBef>
                <a:spcPts val="3200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310120" indent="-365760">
              <a:spcBef>
                <a:spcPts val="3200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554400" indent="-55440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1059120" indent="-55440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613520" indent="-55404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2167920" indent="-55440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2722320" indent="-55404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2722320" indent="-55404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2722320" indent="-55404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939960" y="1884240"/>
            <a:ext cx="8534160" cy="588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Biblia dice que Dios es am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Biblia dice que el amor de Dios es perfec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el amor es perfecto, no se detie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nos ama todo el tiemp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939960" y="762120"/>
            <a:ext cx="8686800" cy="8229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tanás hace que la gente piense que Dios nos ama sólo cuando hacemos cosas buenas y lind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813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tanás hace que la gente piense que Dios se molesta cuando somos desobedient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813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no es así, Dios nos ama y nos ayuda a ser como é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813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os nos quiere y nos ayuda siemp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863640" y="1752480"/>
            <a:ext cx="8610480" cy="6269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 que Satanás dice no es la ver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hora quiere que la gente sufra para que pensemos que es culpa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o Dios tiene otros plan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rque Dios es am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39960" y="1371240"/>
            <a:ext cx="8686800" cy="6946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dice en Jeremías 29: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 sé los planes que tengo para ti, planes de bien y no de ma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a darte un lindo futuro y esperanza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Dios quiere que yo sea feliz! ¡Dios es amo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939960" y="1143000"/>
            <a:ext cx="8610480" cy="7407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rido Dio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475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yúdanos a no creer las mentiras de Sataná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475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yúdanos a recordar que eres amor y que quieres salvarnos, no hacernos m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475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yúdanos a no tenerte miedo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475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yúdanos a aprender a amarte. Amé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3809880"/>
            <a:ext cx="975348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¡Dios es Amor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244160" y="1752120"/>
            <a:ext cx="835812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542880" indent="-5428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y vamos a aprender quién es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Biblia dice que Dios es como un pad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o nuestros padres no son perfect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Dios es perfecto, su amor es perfect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939960" y="685440"/>
            <a:ext cx="8610480" cy="8381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el libro de Génesis, la Biblia cuenta la historia de Adán y Ev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813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ce que Satanás se hizo una serpiente para engañar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813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a le dijo a la serpiente lo que Dios le había dicho, que si comían del árbol en el medio del jardín, iban a mor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813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Satanás dijo que Dios estaba mintiend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39600" y="1523880"/>
            <a:ext cx="8762760" cy="676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tanás le mintió a Eva y la hizo pensar que Dios es mal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Dios no es jus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podemos ser mejor si hacemos las cosas a nuestra maner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Pero Dios es perfecto, su amor es perfect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939960" y="1523520"/>
            <a:ext cx="8610480" cy="663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cosas que Satanás le dijo a Eva eran mentira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Eva le hizo caso, empezó a sufr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Eva le creyó a Dios, tuvo paz y fue feli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Dios es perfecto, su amor es perfect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939960" y="201888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y día Satanás sigue mintien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iere que creamos que Dios es mal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Dios castiga y hace suf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Pero Dios es perfecto, su amor es perfect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63640" y="1066680"/>
            <a:ext cx="8763120" cy="763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y día mucha gente no habla con Dios, porque le tem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988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y gente que piensa que Dios mira lo que hacemos para castig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988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desobedecemos los consejos de Dios, no somos felic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3988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Pero Dios es perfecto, su amor es perfect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939960" y="1599840"/>
            <a:ext cx="8610480" cy="636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548640" indent="-54864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no hizo a sus ángeles para castigar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8640" indent="-54864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no hizo a las personas para castigarl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8640" indent="-54864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hizo a sus hijos para darles am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8640" indent="-548640">
              <a:spcBef>
                <a:spcPts val="4201"/>
              </a:spcBef>
              <a:buClr>
                <a:srgbClr val="ffffff"/>
              </a:buClr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Porque Dios es perfecto, su amor es perfect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21:01:59Z</dcterms:created>
  <dc:creator/>
  <dc:description/>
  <cp:keywords/>
  <dc:language>en-US</dc:language>
  <cp:lastModifiedBy>Freddy Fernandez</cp:lastModifiedBy>
  <dcterms:modified xsi:type="dcterms:W3CDTF">2013-02-28T16:06:47Z</dcterms:modified>
  <cp:revision>19</cp:revision>
  <dc:subject/>
  <dc:title>¡Dios es Amor!</dc:title>
</cp:coreProperties>
</file>